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7D1C-561C-4212-9FEB-770E5CA3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24E6-74B7-4391-80DE-790AB0F7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FBBA-CB37-460A-B6E3-DA90C54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20A5-4AC0-405A-9635-2B2C53D6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C92-7364-4009-BE8E-3AAD36CB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318A-5F36-43AB-BC6B-149F3955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440-16D6-4A95-878F-61BA710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75A-478C-4E38-AFD4-F5862241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229F-E93E-4E4C-BAAC-B033693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5A35-D974-4E3B-BC68-A06717E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2F8F-F895-4C94-BBFA-12ADE9D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C6C7-B2B7-4419-B09A-8D9B4A3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8E1-7747-4AD3-BFD2-00BB975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C74F-97A4-4731-8983-08B4EB5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B396-670E-40EF-8610-55EB2350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AE91-59DE-482B-9600-49089F9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DCF8-FD95-4713-94B0-09C9C69F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5BE1-F6D6-4C4A-806C-FE601A6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746D-A60A-4198-9FB5-949B432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9FC0-5B59-4967-BF49-EA840D3B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A3A2-915A-4442-BF4E-92660E3D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A2C4-4E4A-4B3A-B918-0B3257FF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4C9C-6AF4-44A2-9763-9A67AC0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2B6A-3C2F-484A-8F1C-60297C7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6EDC-FD34-46AF-9B4A-B54A950BA0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201A-77F6-43B2-A0D8-7689349F3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Documents and Settings\Fenesi Gyozo\Desktop\Tema de casa Modul 4\Aplicatia\TABLOU_N.EXE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hyperlink" Target="C:\Documents and Settings\Fenesi Gyozo\Desktop\Tema de casa Modul 4\Aplicatia\TABLOU_N.PAS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nfoliceu.webnode.com/clasa-a-x-a-pascal/vectori/" TargetMode="External"/><Relationship Id="rId2" Type="http://schemas.openxmlformats.org/officeDocument/2006/relationships/hyperlink" Target="http://infoliceu.webnode.com/clasa-a-x-a-pascal/vector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IRURI DE VALOR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OU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enesi Gyo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RURI DE VALO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viata de zi cu zi ne intalnim de multe ori cu situatia in care trebuie sa analizam un set de valori de acelasi ti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tfel de structura se numest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ar valorile respective se numesc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ementele sirulu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Contraexemplu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ca am avea, de exemplu, 100 de elevi am putea declara pentru fiecare elev cate o variabila, lucru ce ar fi total inefici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plus, algortimii trebuie sa indeplineasca proprietatea ca sunt generali adica nu lucreaza cu seturi de date particul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tfel, daca stim ca avem n elevi (n citit de la tastatura sau din fisier) nu putem sa declaram n variabile pentru ca la fiecare rulare a programului valoarea lui n se poate schimb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r de elemente si rangul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tru a memora toate elementele unui sir intr-o variabila indexata, in care elementele sunt dispuse intr-o anumita ordine, ocupand pozitii successive bine-determinate vom folos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ctor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u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blouri unidimensiona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i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cele (rangul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lementului pozitia pe care se afla un element in ve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4191120"/>
            <a:ext cx="3213000" cy="2114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97200" y="62974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z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ouri no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upunem ca avem tabloul note: Note=(5,7,9,7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a_notelor = (note[1]+note[2]+note[3]+note[4])/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einteles, pentru fiecare nota puteam folosi cate o variabila. Insa, daca la un elev sunt 4 note in rubrica, la altul sunt 3, la altul sunt 5 s.a.m.d lucrurile se schimb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stfel de cazuri trebuie sa citim n (numarul de note) si sa citim notele pe r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562720"/>
            <a:ext cx="144792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562720"/>
            <a:ext cx="144756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5562720"/>
            <a:ext cx="144756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562720"/>
            <a:ext cx="144792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79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5791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5791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lizarea practic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lararea tabloului si incarcarea cu notele citite de la tastatur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r: ARRAY[1..50] of inte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(‘n=‘); readln(n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:=1 to n 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(‘Nota[‘,i,’]=’); readln(sir[i]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LICAT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gramul de mai jos citeste notele unui elev de la tstatura si le afiseaza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4267080"/>
          <a:ext cx="182880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267080"/>
                    <a:ext cx="1828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562720" y="4191120"/>
          <a:ext cx="167616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191120"/>
                    <a:ext cx="16761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400800" y="3200400"/>
            <a:ext cx="1905120" cy="609480"/>
          </a:xfrm>
          <a:prstGeom prst="wedgeRectCallout">
            <a:avLst>
              <a:gd name="adj1" fmla="val -37083"/>
              <a:gd name="adj2" fmla="val 10885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ursa program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200400"/>
            <a:ext cx="1904760" cy="609480"/>
          </a:xfrm>
          <a:prstGeom prst="wedgeRectCallout">
            <a:avLst>
              <a:gd name="adj1" fmla="val -49083"/>
              <a:gd name="adj2" fmla="val 12552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gramul executa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F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infoliceu.webnode.com/clasa-a-x-a-pascal/vectori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pascal.comuv.com/tablouri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bitcell.info/tutorial-pascal-lectia-4-vectori-tablouri-matrici-t54.ht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http://ro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pt-BR" sz="3200" spc="-1" strike="noStrike" u="sng">
                <a:solidFill>
                  <a:srgbClr val="ffcc00"/>
                </a:solidFill>
                <a:uFillTx/>
                <a:latin typeface="Garamond"/>
              </a:rPr>
              <a:t>oza1</a:t>
            </a: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:</a:t>
            </a: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http://www.scritube.com/files/informatica/java/41_poze/image007.jp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eni Petru</cp:lastModifiedBy>
  <dcterms:modified xsi:type="dcterms:W3CDTF">2010-12-15T20:58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